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47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ndle 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eguire le applicazioni per MS-DOS su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 un bundle hardware/software SunPC, gli utenti SPARC dispongono della soluzio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ù rap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eseguire le applicazioni per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undle SunPC supportano inoltre le applicazioni per Microsoft Windows oltre alle applicazioni presenti nell’elenco certificato del software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supporta i protocolli di rete PC più comuni, incluso il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25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lteriori informazion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SunPC, chiamare il numero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/434-1511, premere #1. In alternativa, accedere al nostro indirizzo su World Wide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formazioni su come acquist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, chiamare il numero 512/434-1511, premere #2. In alternativa, rivolgersi al rivenditore Sun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