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20040"/>
        <c:axId val="16775158"/>
      </c:barChart>
      <c:catAx>
        <c:axId val="388200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75158"/>
        <c:crosses val="autoZero"/>
        <c:auto val="1"/>
        <c:lblAlgn val="ctr"/>
        <c:lblOffset val="100"/>
        <c:noMultiLvlLbl val="0"/>
      </c:catAx>
      <c:valAx>
        <c:axId val="16775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200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08E-A929-4FE7-868B-E531F86E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AFAF-D900-451C-A263-68B17E49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6D6-061B-46B2-8E9C-1FE87947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41B-704A-45B7-BAA8-848FF0D9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4AA-F786-4409-93D8-232CCD81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879-3B56-471B-9968-444B33DC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5F3-7447-49C3-9668-424016AA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C89-2322-464F-93AB-32993DAC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C58-3DFD-4F4F-B55B-AEB0C032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83A-DD9B-41C1-B5DC-383DFD15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FC8-651C-4076-832C-FFA4961B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B85-AFE2-4B01-B7BA-983489F5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B3DE1-853A-4A09-B1C3-8EF8F12572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