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7084"/>
        <c:axId val="21466155"/>
      </c:barChart>
      <c:catAx>
        <c:axId val="8727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66155"/>
        <c:crosses val="autoZero"/>
        <c:auto val="1"/>
        <c:lblAlgn val="ctr"/>
        <c:lblOffset val="100"/>
        <c:noMultiLvlLbl val="0"/>
      </c:catAx>
      <c:valAx>
        <c:axId val="21466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7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65F-07CB-4062-8724-08260A2E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5F4-0DFB-47F4-B7D8-E1812D0D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6D7-683E-4BB4-9F32-D5CFF7E8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898-1BF1-4AF3-98D3-C326EE37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3F3-2EEA-47AB-8341-9ED9D78F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198-11B1-4CE8-B23E-2A23C276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071-E529-454D-A5AA-7314BA5E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3F0-B9D1-4EAC-9D9D-349CB86A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F23-BA96-43E8-9BE2-1AF3709C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C0D-4F2D-4E80-8767-B1754542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B61-017A-4C50-826F-B87217A6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2E8-703C-4CEE-9EE7-0BDA9545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8E0F7-8CEE-4DD8-BB7D-9759FB0073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