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37912"/>
        <c:axId val="67597481"/>
      </c:barChart>
      <c:catAx>
        <c:axId val="76237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7481"/>
        <c:crosses val="autoZero"/>
        <c:auto val="1"/>
        <c:lblAlgn val="ctr"/>
        <c:lblOffset val="100"/>
        <c:noMultiLvlLbl val="0"/>
      </c:catAx>
      <c:valAx>
        <c:axId val="67597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7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F41-6FBC-4256-B5C4-42453715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C71-BC6C-4DCB-87A7-4958DBB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05A-7BD5-406B-8BF3-F6B6728C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6BE-51CC-47FC-BFDF-A4D3A778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787-EA7C-4DFD-BEAB-703843E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853-285E-443A-9EA1-786A580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A7D-1E18-4FBE-82B7-D0A4C0FF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3AE-B3A5-4B1E-AFFD-45AAE57D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088-8657-461D-9029-CAD06E4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A10-983B-4EC0-96E3-9B75C57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515-07C3-44C0-81EA-B94718A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D80-BCA7-4BC7-8122-AA03349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F407-C423-4917-A246-AD72D61003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