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246493"/>
        <c:axId val="39838148"/>
      </c:barChart>
      <c:catAx>
        <c:axId val="112464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38148"/>
        <c:crosses val="autoZero"/>
        <c:auto val="1"/>
        <c:lblAlgn val="ctr"/>
        <c:lblOffset val="100"/>
        <c:noMultiLvlLbl val="0"/>
      </c:catAx>
      <c:valAx>
        <c:axId val="398381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464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7CAE-A5F3-4065-BEB7-0835AABF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51E5-49B5-48FD-8FFE-BD1321F1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D674-561F-4F3D-9EA0-82679429A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C17F-59E8-4ED4-A62F-BCBCA35A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3D15-DDC1-4D2C-AB7D-3588A36B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5E6D-AF4A-4570-AE41-B2BE4389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4EEF-84BF-4917-9756-36B3FEBF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E898-807E-4BFC-B24F-952F4ECD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4FDA-942F-4319-B471-8DE7D878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90E2-3E21-44ED-9979-10C0A94E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E59B-CC6D-4C76-AFE7-1232AF7C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06BB-B3EE-4989-BC33-C82C3F9F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F6A73-A159-49BC-BA6A-7032F9F510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