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14557"/>
        <c:axId val="19100733"/>
      </c:barChart>
      <c:catAx>
        <c:axId val="82514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00733"/>
        <c:crosses val="autoZero"/>
        <c:auto val="1"/>
        <c:lblAlgn val="ctr"/>
        <c:lblOffset val="100"/>
        <c:noMultiLvlLbl val="0"/>
      </c:catAx>
      <c:valAx>
        <c:axId val="19100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14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39E-5F23-4701-9C9E-7312D48C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826-C4F3-4C74-B28D-DB2666A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063-6886-4115-81D7-ABEA4CB4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479-8907-4FA6-9E30-8EF8C2B2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248-1383-4A83-B023-8D7A675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758-F2F4-4A70-9BA6-6E63C34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022-CCEB-4026-972C-74C3CFBA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5C8-A96E-4D3F-B787-EDC361A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1B0-AD33-4E27-A0A4-B4D40916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159-CD3D-417A-807B-4A4C11E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924-9E16-4905-AE45-A290AEA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23D-481A-4E4B-B609-3F5DBDFC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7F598-A0D1-4E79-9608-F1EFF067D2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