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7962"/>
        <c:axId val="24024297"/>
      </c:barChart>
      <c:catAx>
        <c:axId val="55837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24297"/>
        <c:crosses val="autoZero"/>
        <c:auto val="1"/>
        <c:lblAlgn val="ctr"/>
        <c:lblOffset val="100"/>
        <c:noMultiLvlLbl val="0"/>
      </c:catAx>
      <c:valAx>
        <c:axId val="24024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7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B14-7500-4057-A549-46BF76D9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DD4-5DEA-426B-9304-B620AE6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D87-6885-4488-9AEC-02356B28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81D-47CF-4E55-B764-6404B09E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ECC-FAD0-4F6B-A449-E84AB626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A64-F5FE-4675-9A49-0EF5A98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501-92AF-4D02-A9AB-A376222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B4E-49BC-4A77-994A-D8D58394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2F9-F5EC-45DD-83E6-A4EABF2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FBA-5EAC-44D5-B432-ADE60FF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D30-C3BC-4BD6-964E-DB98717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026-C43E-45E7-B449-C17AA38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37581-8CD7-49F7-9BF6-113C25B0B6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